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5AA-4BBC-4428-BE92-EBF47B21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8D4-2948-446F-8F54-39D1BBDE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A38-58AA-4489-8A63-1D378B53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7F6-C2BC-4AE6-8AEB-CF466D4A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AFA-B805-486E-8F94-3E6DB453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D95-C098-45BE-8DAE-F795378E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6CE-5D3B-4B79-9683-D725BD6F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C47-71A7-4982-99F8-08683B62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AB8-6F31-43E0-99CA-EC926D93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056-A572-4755-AED1-DFB4E570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B39-EDBE-4EF4-9C18-B6F6F008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2F1-EDCE-4D36-A97F-1F4D519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BFE4-024E-45B5-81C6-BD0FA0B0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itory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How and Why” of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4123900000[1]"/>
          <p:cNvPicPr/>
          <p:nvPr/>
        </p:nvPicPr>
        <p:blipFill>
          <a:blip r:embed="rId1"/>
          <a:stretch/>
        </p:blipFill>
        <p:spPr>
          <a:xfrm>
            <a:off x="5791320" y="380880"/>
            <a:ext cx="2217600" cy="190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Pj04394660000[1]"/>
          <p:cNvPicPr/>
          <p:nvPr/>
        </p:nvPicPr>
        <p:blipFill>
          <a:blip r:embed="rId2"/>
          <a:stretch/>
        </p:blipFill>
        <p:spPr>
          <a:xfrm>
            <a:off x="533520" y="152280"/>
            <a:ext cx="28191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88600" y="136800"/>
            <a:ext cx="7966800" cy="65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Topic Ide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: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No more dru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addictive, hurts families,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ure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epidemic, people are dying, world is un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ure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families are split apart, people die, it is a disease which affects all of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Equality among people/race/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examples of race, relig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Stop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water purity, ozone layer, fish die, people have respiratory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Animal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animal testing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elty to animals, elephant p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hild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neglect, physical abuse, verbal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Famil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immorality, adultery, faithfu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school grades, make school fun, scores, learn to read and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gang warfare, drive by shooting, mafia, robb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World H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India- starving people, Africa, homeless and starving in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Government Dict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Hitler, Hussein, Mussol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f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from pers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necd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Paragraph O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i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information on your thre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dmire friends with great qualities. Three qualities I admire are: loyalty, honesty, a good sense of hum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main idea for paragraph 2 on the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details-describ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about the topi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anecd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Pj04385250000[1]"/>
          <p:cNvPicPr/>
          <p:nvPr/>
        </p:nvPicPr>
        <p:blipFill>
          <a:blip r:embed="rId1"/>
          <a:stretch/>
        </p:blipFill>
        <p:spPr>
          <a:xfrm>
            <a:off x="838080" y="152280"/>
            <a:ext cx="2133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main idea on the out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how the topic works itself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Pj04385850000[1]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main idea onto your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examples of how the idea has been experienced by you  in you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 idea “ looks” or what the person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Pj04117850000[1]"/>
          <p:cNvPicPr/>
          <p:nvPr/>
        </p:nvPicPr>
        <p:blipFill>
          <a:blip r:embed="rId1"/>
          <a:stretch/>
        </p:blipFill>
        <p:spPr>
          <a:xfrm>
            <a:off x="1447920" y="0"/>
            <a:ext cx="1168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state all of your ideas in your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Pj04117540000[1]"/>
          <p:cNvPicPr/>
          <p:nvPr/>
        </p:nvPicPr>
        <p:blipFill>
          <a:blip r:embed="rId1"/>
          <a:stretch/>
        </p:blipFill>
        <p:spPr>
          <a:xfrm>
            <a:off x="3124080" y="3581280"/>
            <a:ext cx="39625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qualities of a good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y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Secr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e of Hum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suck up to you/ (real, authentic p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inte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ransition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transitio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nally, or In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4222370000[1]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let’s write the introduction together, now that we know what we are writing ab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. Hook- Hook your reader with a question, quote, short anecdote, or personal experienc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SL00688_0000[1]"/>
          <p:cNvPicPr/>
          <p:nvPr/>
        </p:nvPicPr>
        <p:blipFill>
          <a:blip r:embed="rId1"/>
          <a:stretch/>
        </p:blipFill>
        <p:spPr>
          <a:xfrm>
            <a:off x="6553080" y="4800600"/>
            <a:ext cx="23288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What is Expository Wri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writing is defined as presenting reasons, explanations, or steps in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ository essay should follow a logical sequence and have three different mai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and coherence is the main focus of an expository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Introduction –cont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one “background” or informational sentence about each idea you are going to write abou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Pj04309940000[1]"/>
          <p:cNvPicPr/>
          <p:nvPr/>
        </p:nvPicPr>
        <p:blipFill>
          <a:blip r:embed="rId1"/>
          <a:stretch/>
        </p:blipFill>
        <p:spPr>
          <a:xfrm>
            <a:off x="6705720" y="3886200"/>
            <a:ext cx="1677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hesis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sis statement can be first in the paragraph, last in the paragraph or implied throughout the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 would like to change the world by improving the poverty situation in our world, alleviating crime, and helping the homel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Editing your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you have all the elements of an expository es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 that re-states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, logic and clea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75840" y="350640"/>
            <a:ext cx="816048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sitory Ess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hree different types of expository ess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Essay that is developed with examples and/or facts and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Essay that is developed with steps in a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Essay that is in a compare and contras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1: Introducto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Thesis sentence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Background info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Statistics- if relevant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2: Reason#1 or Process #1  Use a transition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Example/detail #1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Example/detail #2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Example/detail#3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3: Reason #2or Process #2 Use a transition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Example/detail #1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Example/detail#2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Example/detail #3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4: Reason #3 or Process #3 Use a transition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Example/detail #1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Example/detail #2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Example/detail#3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5: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 a reason from each paragraph and RE-STATE it in the conclusion.  Add a clinch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you have a clear logical top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ve you introduced your topic in the first para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you have one reason per para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you have three details to support each rea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ve you used transition words at the beginning of each para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How is it differen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writing does not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writing does not persuade a reader but only gives facts and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writing can also give the steps of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Exposit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an expository should include the main idea and what the essay is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main reasons supporting this main idea should also be included in the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Expository writing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graph two should introduce the first reason and give details to support the first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graph three should introduce the second reason and give details to support the second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graph four should introduce the third reason and give details to support the third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lusion should re-state all the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line for Ex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. Int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Hook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Background information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Background information on topic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Background information on topic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Statistic or personal anecdote-optional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. THESIS STATEMENT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. First Reason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Fact/ or example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Fact/ example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Detail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Fact/example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. Sum- up statement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. Second Reason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Fact/or example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Fact/example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Fact/example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. Detail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. Sum- up statement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V. Third Reason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Fact/example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Fact/example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Detail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Fact/example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.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. Conclu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- state all reasons in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cher sentence- gives a summation of the above and a “feeling” about the whole ess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transition words, plan reasons in a logical order, make sure you re-state reasons in your conclu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 Statement: The main idea of the whole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words: Words such as first, second, as a result, which make transitions easy in the es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s: Each paragraph should have a main point or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Details: Details support the mai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Pj04395020000[1]"/>
          <p:cNvPicPr/>
          <p:nvPr/>
        </p:nvPicPr>
        <p:blipFill>
          <a:blip r:embed="rId1"/>
          <a:stretch/>
        </p:blipFill>
        <p:spPr>
          <a:xfrm>
            <a:off x="152280" y="409680"/>
            <a:ext cx="20574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Re-Cap:</a:t>
            </a:r>
            <a:br>
              <a:rPr sz="4400"/>
            </a:b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Expository writing need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supporting that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supporting the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lusion re-stating the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, concise, logical and informative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opic: How I Would Change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in which would like to chang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se three reasons on the bubbl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Pj04037050000[1]"/>
          <p:cNvPicPr/>
          <p:nvPr/>
        </p:nvPicPr>
        <p:blipFill>
          <a:blip r:embed="rId1"/>
          <a:stretch/>
        </p:blipFill>
        <p:spPr>
          <a:xfrm>
            <a:off x="838080" y="4572000"/>
            <a:ext cx="1552680" cy="194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Pj04276350000[1]"/>
          <p:cNvPicPr/>
          <p:nvPr/>
        </p:nvPicPr>
        <p:blipFill>
          <a:blip r:embed="rId2"/>
          <a:stretch/>
        </p:blipFill>
        <p:spPr>
          <a:xfrm>
            <a:off x="3124080" y="4952880"/>
            <a:ext cx="1710000" cy="169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MCj01494350000[1]"/>
          <p:cNvPicPr/>
          <p:nvPr/>
        </p:nvPicPr>
        <p:blipFill>
          <a:blip r:embed="rId3"/>
          <a:stretch/>
        </p:blipFill>
        <p:spPr>
          <a:xfrm>
            <a:off x="5410080" y="4495680"/>
            <a:ext cx="979560" cy="201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Cj02876250000[1]"/>
          <p:cNvPicPr/>
          <p:nvPr/>
        </p:nvPicPr>
        <p:blipFill>
          <a:blip r:embed="rId4"/>
          <a:stretch/>
        </p:blipFill>
        <p:spPr>
          <a:xfrm>
            <a:off x="6858000" y="5105520"/>
            <a:ext cx="1728720" cy="134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6:18:58Z</dcterms:created>
  <dc:creator>Bono, Julie</dc:creator>
  <dc:description/>
  <dc:language>en-US</dc:language>
  <cp:lastModifiedBy>Angie McCall</cp:lastModifiedBy>
  <dcterms:modified xsi:type="dcterms:W3CDTF">2013-11-06T19:18:02Z</dcterms:modified>
  <cp:revision>20</cp:revision>
  <dc:subject/>
  <dc:title>Expository Writing</dc:title>
</cp:coreProperties>
</file>